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A80F-3655-4B90-831E-70CC68814C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2726-F302-478C-85DC-47AD2B5D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92A9-B14E-4995-8672-1D0BCCFD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5367-09F8-42C3-B47D-11479C0C63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A99C-5B7D-49F2-8716-8D6B8C64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C7F9-5EDA-4294-A8AC-25659000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BFA4-DC1E-4C0F-9076-271C0DA0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0120-6CF7-4B56-9F11-1FD06895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04BA-952B-4BB5-87E1-9E514345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7892-E746-496A-936B-EB802A1A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CE7B-E722-41E5-938A-FB62E29B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D0FA-DBD9-476C-946B-A5BE2767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B485-3066-42CA-97F7-A09AE804C53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DB%ED%FA&#750;%D6%D7&amp;in=24434&amp;cl=2&amp;cm=1&amp;sc=0&amp;lm=-1&amp;pn=5&amp;rn=1&amp;di=520913620&amp;ln=29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C9%CF%ED%FA%CF&#180;%B9&amp;in=24360&amp;cl=2&amp;cm=1&amp;sc=0&amp;lm=-1&amp;pn=9&amp;rn=1&amp;di=3068539860&amp;ln=21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.baidu.com/i?ct=503316480&amp;z=0&amp;tn=baiduimagedetail&amp;word=%C9%CF%ED%FA%CF&#180;%B9&amp;in=17924&amp;cl=2&amp;cm=1&amp;sc=0&amp;lm=-1&amp;pn=14&amp;rn=1&amp;di=802516856&amp;ln=216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06/0061910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&amp;in=10014&amp;cl=2&amp;cm=1&amp;sc=0&amp;lm=-1&amp;pn=96&amp;rn=1&amp;di=292670380&amp;ln=200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%CB%F5&#1057;&amp;in=4288&amp;cl=2&amp;cm=1&amp;sc=0&amp;lm=-1&amp;pn=6&amp;rn=1&amp;di=2495250980&amp;ln=1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22/02208301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511511.com/m5/images/yixuetuku/pic/022/0220490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E9&#891;&amp;in=28349&amp;cl=2&amp;cm=1&amp;sc=0&amp;lm=-1&amp;pn=6&amp;rn=1&amp;di=2412410100&amp;ln=407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8%E9&#891;&amp;in=28349&amp;cl=2&amp;cm=1&amp;sc=0&amp;lm=-1&amp;pn=7&amp;rn=1&amp;di=2421521140&amp;ln=407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D8&#892;%C9%E0&amp;in=2&amp;cl=2&amp;cm=1&amp;sc=0&amp;lm=-1&amp;pn=1&amp;rn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B2%DD&#1902;%C9%E0&amp;in=2&amp;cl=2&amp;cm=1&amp;sc=0&amp;lm=-1&amp;pn=1&amp;rn=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201326592&amp;z=0&amp;flag=1&amp;pn=73&amp;cl=2&amp;lm=-1&amp;cm=1&amp;sc=0&amp;rn=16&amp;tn=baiduimagedetail&amp;word=&#33041;&#31215;&#27700;&amp;in=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四节  头部和颈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3" descr="eye1"/>
          <p:cNvPicPr/>
          <p:nvPr/>
        </p:nvPicPr>
        <p:blipFill>
          <a:blip r:embed="rId1"/>
          <a:stretch/>
        </p:blipFill>
        <p:spPr>
          <a:xfrm>
            <a:off x="826920" y="4581360"/>
            <a:ext cx="29019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59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的功能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眼检查 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前节检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底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外眼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16"/>
          <p:cNvPicPr/>
          <p:nvPr/>
        </p:nvPicPr>
        <p:blipFill>
          <a:blip r:embed="rId1"/>
          <a:srcRect l="2060" t="-262" r="2234" b="3309"/>
          <a:stretch/>
        </p:blipFill>
        <p:spPr>
          <a:xfrm>
            <a:off x="1116000" y="1916280"/>
            <a:ext cx="698508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1763640" y="2565360"/>
            <a:ext cx="792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763640" y="4724280"/>
            <a:ext cx="792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5084640"/>
            <a:ext cx="165744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187280" y="3933720"/>
            <a:ext cx="115272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6160" y="9806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睑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yel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睑内翻：瘢痕形成使睑缘向内翻转，沙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闭合障碍：甲亢、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水肿：肾炎、慢性肝病、营养不良、贫血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上睑下垂：双侧：先天性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　　　单侧：蛛网膜下腔出血、白喉、脑脓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3" name="Picture 4" descr="u=1199593598,1346013913&amp;gp=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653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u=3276511083,3815433473&amp;gp=-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4653000"/>
            <a:ext cx="194472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=2654175790,360757377&amp;gp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653000"/>
            <a:ext cx="2665440" cy="18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膜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conjunctiv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8960" y="1928880"/>
            <a:ext cx="81327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睑结膜－－穹隆部结膜－－球结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9" name="Picture 5" descr="17"/>
          <p:cNvPicPr/>
          <p:nvPr/>
        </p:nvPicPr>
        <p:blipFill>
          <a:blip r:embed="rId1"/>
          <a:srcRect l="986" t="556" r="0" b="0"/>
          <a:stretch/>
        </p:blipFill>
        <p:spPr>
          <a:xfrm>
            <a:off x="826920" y="2708280"/>
            <a:ext cx="7490160" cy="309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充血：结膜炎、角膜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颗粒、滤泡：砂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出血点：亚急性细菌性心内膜炎、出血性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苍白：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发黄：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eyeba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19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19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68360" y="242568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突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55640" y="302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双侧眼球突出：甲状腺功能亢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侧眼球突出：局部炎症或眶内占位性病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下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严重脱水、老年人框内脂肪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orner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征、眶尖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0061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1920"/>
            <a:ext cx="2808360" cy="22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105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伤性眼球下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2606400">
            <a:off x="3031920" y="3855600"/>
            <a:ext cx="779400" cy="219240"/>
          </a:xfrm>
          <a:prstGeom prst="rightArrow">
            <a:avLst>
              <a:gd name="adj1" fmla="val 50000"/>
              <a:gd name="adj2" fmla="val 888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运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00160"/>
            <a:ext cx="86104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顺序：左　左上　左下，右　右上　右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rcRect l="1106" t="544" r="2051" b="-82"/>
          <a:stretch/>
        </p:blipFill>
        <p:spPr>
          <a:xfrm>
            <a:off x="1042920" y="2924280"/>
            <a:ext cx="7056360" cy="288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1280" y="587700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球六个方向的运动、相应的配偶肌和神经支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628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840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查：透明度、云翳、白斑、软化、溃疡、新生血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翳、白斑：影响视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血管增生：砂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软化：婴儿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环：角膜周边白色混浊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边棕褐色环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ayser Fleisch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肝豆状核变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03280" y="10526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前节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头部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颈部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0840" y="1557360"/>
            <a:ext cx="7103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黄染多为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8880" y="27097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虹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92000" y="3645000"/>
            <a:ext cx="7910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纹理模糊、消失：炎症、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虹膜形态异常、裂孔：虹膜后粘连、外伤、先天性虹膜缺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pup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08000"/>
            <a:ext cx="74995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状、大小、位置、双侧是否等圆、等大、光反射、集合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圆形、双侧等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4" descr="u=3070937606,136809598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005360"/>
            <a:ext cx="3241440" cy="23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12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3170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瞳孔：在自然光下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圆形，双侧对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光眼、眼内肿瘤：椭圆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粘连：不规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415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瞳孔大小不等：脑肿瘤、颅内出血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对光反应迟钝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缩小：虹膜炎、有机磷、巴比妥、吗啡、氯丙嗪等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散大：视神经萎缩、阿托品、可卡因等中毒、深昏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瞳孔大小不等：脑外伤、脑肿瘤、中枢神经梅毒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光反射减弱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u=1314953706,1135174251&amp;gp=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27492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63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8960" y="2139480"/>
            <a:ext cx="79916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耳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ricle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外形、大小、位置、对称性、结节、红肿、牵拉痛、触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耳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xternal auditory canal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皮肤是否正常、溢液、瘢痕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78960" y="1650600"/>
            <a:ext cx="81327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膜是否穿孔、穿孔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溢脓并由恶臭，为胆脂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3" descr="02208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230328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114600" y="5733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鼓膜外伤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02204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860640"/>
            <a:ext cx="2449800" cy="187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94960" y="580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常鼓膜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突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mastoid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腔与中耳道相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脓性中耳炎引流不畅　　乳突炎　　耳廓后方红肿、乳突区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442764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012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5" descr="u=3959813853,481056256&amp;gp=-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860640"/>
            <a:ext cx="2664000" cy="19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=4087243158,775738069&amp;gp=-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860640"/>
            <a:ext cx="273708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99760" y="1428840"/>
            <a:ext cx="815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力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ditory acuity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测法：手（闭目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摩擦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退：耳道有耵聍或异物、听神经损害、局部或全身血管硬化、中耳炎、耳硬化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的外形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翼扇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中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说出头颅检查的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颜面及其器官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颈部检查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运用头部检查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15B6-B475-4C69-AAEB-C2F019AA82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9920" y="1833120"/>
            <a:ext cx="7893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形：皮肤颜色和鼻外形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梁红色斑块、高出皮面，向两侧面颊发展：系统性红斑狼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糟鼻：发红、血管扩张、组织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蛙状鼻：鼻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鼻：鼻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翼煽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叶性肺炎、支气管哮喘、心源性哮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中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偏曲、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外伤、感染、血管损伤、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全身性疾病、高血压、肝脾疾病、维生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，子宫内膜异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9320" y="1790640"/>
            <a:ext cx="7158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萎缩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他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脓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4000" y="1413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窦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nasal sinu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颌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额  窦：向后向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筛  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蝶  窦：位置较深，不能在体表检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photo-3"/>
          <p:cNvPicPr/>
          <p:nvPr/>
        </p:nvPicPr>
        <p:blipFill>
          <a:blip r:embed="rId1"/>
          <a:stretch/>
        </p:blipFill>
        <p:spPr>
          <a:xfrm>
            <a:off x="1763640" y="3933720"/>
            <a:ext cx="500400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achel-mouth-3"/>
          <p:cNvPicPr/>
          <p:nvPr/>
        </p:nvPicPr>
        <p:blipFill>
          <a:blip r:embed="rId1"/>
          <a:stretch/>
        </p:blipFill>
        <p:spPr>
          <a:xfrm>
            <a:off x="2590920" y="25146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769760"/>
            <a:ext cx="80848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颜色、疱疹、口角糜烂或歪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绀、苍白、樱桃红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周疱疹、角糜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角歪斜、唇裂、口唇肿胀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46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黏膜可出现黑色素沉着：肾上腺皮质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磨牙颊黏膜处出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opli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疹的早期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下出血：出血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溃疡：口腔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鹅口疮：白色念珠菌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8137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有无龋齿、残根、缺齿、义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疾患表示格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斑釉牙：饮用含氟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32360" y="3211560"/>
            <a:ext cx="3600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076720" y="3571920"/>
            <a:ext cx="324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588000" y="3282840"/>
            <a:ext cx="0" cy="576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732720" y="328284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732720" y="364320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76720" y="328284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720" y="364320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8604360" y="3355920"/>
            <a:ext cx="28728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513320" y="3416400"/>
            <a:ext cx="360360" cy="288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443640" y="2995560"/>
            <a:ext cx="36036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443640" y="4003560"/>
            <a:ext cx="36036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17160" y="209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头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280" y="1373040"/>
            <a:ext cx="73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：牙齿颜色、有无肿胀、溢脓、溃疡、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牙周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铅线（牙龈游离沿蓝灰色线）：铅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8960" y="1326960"/>
            <a:ext cx="754380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面干燥、体积小：严重脱水、放疗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体积大：炎症、黏液水肿、呆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图舌、舌裂纹、草莓舌、牛肉舌、镜面舌、毛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轻微震颤：甲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偏斜：舌下神经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ose move"/>
          <p:cNvPicPr/>
          <p:nvPr/>
        </p:nvPicPr>
        <p:blipFill>
          <a:blip r:embed="rId1"/>
          <a:stretch/>
        </p:blipFill>
        <p:spPr>
          <a:xfrm>
            <a:off x="5651640" y="285264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及其器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u=2725297383,99144636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2220840" cy="2781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=2879229624,26397891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3097440" cy="273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u=197481857,92656269&amp;gp=3"/>
          <p:cNvPicPr/>
          <p:nvPr/>
        </p:nvPicPr>
        <p:blipFill>
          <a:blip r:embed="rId5"/>
          <a:stretch/>
        </p:blipFill>
        <p:spPr>
          <a:xfrm>
            <a:off x="5148360" y="393372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=4056775457,1176561036&amp;gp=3"/>
          <p:cNvPicPr/>
          <p:nvPr/>
        </p:nvPicPr>
        <p:blipFill>
          <a:blip r:embed="rId6"/>
          <a:stretch/>
        </p:blipFill>
        <p:spPr>
          <a:xfrm>
            <a:off x="1835280" y="3860640"/>
            <a:ext cx="182232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1692360" y="3213000"/>
            <a:ext cx="215892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地图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435640" y="313992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草莓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651640" y="6165720"/>
            <a:ext cx="2087280" cy="50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镜面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92360" y="6237360"/>
            <a:ext cx="215892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舌裂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部及扁桃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3" descr="24"/>
          <p:cNvPicPr/>
          <p:nvPr/>
        </p:nvPicPr>
        <p:blipFill>
          <a:blip r:embed="rId1"/>
          <a:srcRect l="0" t="2456" r="1779" b="2731"/>
          <a:stretch/>
        </p:blipFill>
        <p:spPr>
          <a:xfrm>
            <a:off x="755640" y="1773360"/>
            <a:ext cx="7561440" cy="403200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539640" y="3573360"/>
            <a:ext cx="863640" cy="9352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981000"/>
            <a:ext cx="83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ddddd"/>
                </a:solidFill>
                <a:latin typeface="Times New Roman"/>
                <a:ea typeface="宋体"/>
              </a:rPr>
              <a:t>        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扁桃体肿大分度</a:t>
            </a:r>
            <a:r>
              <a:rPr b="1" lang="zh-CN" sz="32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87280" y="1628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超过咽腭弓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过咽腭弓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达到或超过咽后壁中线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4" descr="扁桃体肿大"/>
          <p:cNvPicPr/>
          <p:nvPr/>
        </p:nvPicPr>
        <p:blipFill>
          <a:blip r:embed="rId1"/>
          <a:stretch/>
        </p:blipFill>
        <p:spPr>
          <a:xfrm>
            <a:off x="2050920" y="3141720"/>
            <a:ext cx="4267440" cy="3352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3"/>
          <p:cNvPicPr/>
          <p:nvPr/>
        </p:nvPicPr>
        <p:blipFill>
          <a:blip r:embed="rId1"/>
          <a:srcRect l="1060" t="1254" r="1235" b="940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63640" y="5805360"/>
            <a:ext cx="581832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扁桃体位置及其大小分布示意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38080" y="189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810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腮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07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检查注意：导管口有无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急性流行性腮腺炎：腮腺肿大（以耳垂为中心隆起），压痛、腮腺导管口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187280" y="2060640"/>
            <a:ext cx="51818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的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080" y="1999800"/>
            <a:ext cx="82119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对称、男性喉结、转颈可见胸锁乳突肌、颈部血管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坐位时颈部直立，运动自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活动受限且伴疼痛：软组织炎症、急性颈肌扭伤、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椎病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斜颈：颈外伤、瘢痕收缩、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不能抬起：严重衰竭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强直：脑膜刺激征，见于脑膜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005200" y="132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颈部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53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二）颈部血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颈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颈静脉怒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见于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右心衰竭、缩窄性心包炎、心包积液、上腔静脉综合征、胸腔、腹腔压力高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01-12_100"/>
          <p:cNvPicPr/>
          <p:nvPr/>
        </p:nvPicPr>
        <p:blipFill>
          <a:blip r:embed="rId1"/>
          <a:stretch/>
        </p:blipFill>
        <p:spPr>
          <a:xfrm>
            <a:off x="1763640" y="1052640"/>
            <a:ext cx="5977080" cy="46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3564000" y="587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静脉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824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动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人颈动脉搏动不易看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情况下出现颈动脉搏动常见于：主动脉关闭不全、高血压、甲状腺功能亢进和严重贫血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999800"/>
            <a:ext cx="8250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发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疏密度、脱发类型与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头皮屑、头癣、疖痈、外伤、血肿、瘢痕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125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甲状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剖位置：位于甲状软骨下方，正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表面光滑，柔软不易触及。在作吞咽动作时可随吞咽上下移动，以此可与颈前其他包块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2" name="Picture 4" descr="thyroid2"/>
          <p:cNvPicPr/>
          <p:nvPr/>
        </p:nvPicPr>
        <p:blipFill>
          <a:blip r:embed="rId1"/>
          <a:stretch/>
        </p:blipFill>
        <p:spPr>
          <a:xfrm>
            <a:off x="1979640" y="4076640"/>
            <a:ext cx="4537080" cy="244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610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检查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触诊：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诊：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调连续静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嗡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缩期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1135366495,334030961&amp;gp=0"/>
          <p:cNvPicPr/>
          <p:nvPr/>
        </p:nvPicPr>
        <p:blipFill>
          <a:blip r:embed="rId1"/>
          <a:stretch/>
        </p:blipFill>
        <p:spPr>
          <a:xfrm>
            <a:off x="478800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512288472,3254640954&amp;gp=28"/>
          <p:cNvPicPr/>
          <p:nvPr/>
        </p:nvPicPr>
        <p:blipFill>
          <a:blip r:embed="rId2"/>
          <a:stretch/>
        </p:blipFill>
        <p:spPr>
          <a:xfrm>
            <a:off x="900000" y="981000"/>
            <a:ext cx="3745080" cy="2317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3067451700,4008351304&amp;gp=-36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253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u=3389612004,3170703425&amp;gp=46"/>
          <p:cNvPicPr/>
          <p:nvPr/>
        </p:nvPicPr>
        <p:blipFill>
          <a:blip r:embed="rId4"/>
          <a:stretch/>
        </p:blipFill>
        <p:spPr>
          <a:xfrm>
            <a:off x="4788000" y="3141720"/>
            <a:ext cx="3960720" cy="3367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1258920" y="476280"/>
            <a:ext cx="288144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前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476360" y="3357720"/>
            <a:ext cx="2590920" cy="57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后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肿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不能看到肿大但能触及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看到肿大又能触及但在胸锁乳突肌内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超过胸锁乳突肌外缘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422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四）气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28880"/>
            <a:ext cx="81327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正常人气管位于颈部正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距离不等，提示气管移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健侧：大量胸腔积液、积气或纵隔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患侧：肺不张、胸膜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部评估  主要采用视诊和触诊。检查的内容包括头发与头皮、头颅、颜面及其器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颜面及其器官评估  包括眼（视功能、外眼、眼前节和眼底四部分），耳（外耳、中耳、乳突、听力），鼻（鼻外形与颜色、有无鼻翼扇动、中隔有无偏曲、鼻出血、分泌物、鼻窦压痛），口（口唇、口腔黏膜、牙齿、牙龈、舌、咽和扁桃体、腮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评估  以视诊、触诊、听诊为主。检查内容包括颈部外形与运动、血管、甲状腺、气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甲状腺检查  一般按视诊、触诊、听诊的顺序进行。检查内容包括甲状腺的大小、质地、是否对称，表面是否光滑，有无结节、压痛和震颤，与周围组织有无粘连，听诊有无血管杂音。甲状腺肿大的分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新生儿脑积水的颅形为 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巨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方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尖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变形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小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管向健侧移位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腔积液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不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硬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膜粘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眼球突出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甲状腺功能亢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局部炎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颅内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眶内炎症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520" y="1052640"/>
            <a:ext cx="7665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77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检查应注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小、形态和运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大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量头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生儿头围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可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3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状缝和其他颅缝约在生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骨化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唇呈樱桃红色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氧化碳中毒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铁血红蛋白血症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中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上常见的头颅异常及畸形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00" y="2060280"/>
            <a:ext cx="815040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颅：见于小儿囟门过早闭合，常伴有智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巨颅：见于脑积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方颅：多见于小儿佝偻病或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尖颅：见于先天性疾患尖颅并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趾）畸形，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pe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颅：见于马方综合征及肢端肥大症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2" name="Picture 4" descr="u=2306184876,325538058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2494080"/>
            <a:ext cx="3073320" cy="3311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3960" y="1928880"/>
            <a:ext cx="81295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部运动异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颈椎疾患：头颅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颅不随意运动：震颤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颈动脉搏动一致的点头运动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黑体"/>
              </a:rPr>
              <a:t>见于重度主动脉关闭不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3" descr="nose move"/>
          <p:cNvPicPr/>
          <p:nvPr/>
        </p:nvPicPr>
        <p:blipFill>
          <a:blip r:embed="rId1"/>
          <a:stretch/>
        </p:blipFill>
        <p:spPr>
          <a:xfrm>
            <a:off x="5940360" y="2205000"/>
            <a:ext cx="205740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124000" y="2205000"/>
            <a:ext cx="316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8:48Z</dcterms:modified>
  <cp:revision>95</cp:revision>
  <dc:subject/>
  <dc:title>内科护理学</dc:title>
</cp:coreProperties>
</file>